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8CC2-F7F3-4D63-B0F6-91A22356E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39B-8E14-4AF2-B774-313C7C0B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4C0FD-9A82-4F1D-9D34-998B2874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BD4FF-631E-4C94-8648-14152337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EA01B-EA94-46D4-8FFF-F4CB82FE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E297A-EFB6-401E-95D2-37D7D82C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1F4C8-92C9-4F08-B3B5-21D21FA3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CA4F0-084E-4021-AE3B-F53B4481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8037F-F9FC-4E99-96A1-F6C89282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40B82-2C2B-4D09-9091-BB2603D3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97732-438E-41B3-BD77-070E92C0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159919-9FB0-4365-8125-3DE7C757A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68F0-B163-4DE4-A816-9FBECCB1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5DF8D-D674-4FDC-82A8-D65DDE50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E7BC1-3FA8-4B20-8104-5B7C817A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C200B-4DAF-4F5F-A04E-89F7D1F2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24FCE-E409-4CC4-846C-9BD37A2D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37351-F16B-4C9D-A9D3-118AC290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AC56C-5E43-4CF0-85D3-15321CA3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F1E97-8441-47E9-8F3F-C45A47E8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04C54-4E2B-42CD-8DD9-4CF341B5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5C8F5-4728-4F67-BAB9-BDC42EAB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B296FC-583E-4094-B0FD-DA3DA233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2810-09A1-48EA-A931-C47141C6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7F7661-B6A9-48E9-8B92-9C0DFC43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FB54-CFBF-4AE4-AF23-7238AC3FF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0993-C501-4012-9272-191F9E58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A0565-B57F-4628-A855-EDAECB38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1E6A-DB06-4F3F-83D5-D2943D04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CD89-2D06-4532-AFC5-FAFF490E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EA0F-2ED7-4F50-B6F9-EFFFA39A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570D-C424-49FB-A6C8-335B5101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7C61-1C37-413E-808C-4EC1BE7B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27DF-F222-40E0-BFB7-BBD2C596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68C2-B6C9-471F-966A-36A599C6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CD8F-DA0B-4F70-A796-C51C4A26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E504-9A07-4F7A-8FF7-418AB2EC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187B-EC42-4AC9-9137-F013922E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E7344-A4E5-4FB2-BFD2-E8C5DDB4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117F4-1A47-4F04-8727-619E08A5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0657C-6DA7-4AB1-9D94-0F1131D5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EC23F-5564-4057-B9F0-FD9CCFC2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9068D-1736-40FC-850E-1463C55D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23A6-55CA-42D2-AEE1-E03D3082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599B2-4CD3-4D7E-B5B3-FD84BE66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20145-D514-4162-A3BB-E868D11C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F95CE-FB98-42A6-8773-BA66CD15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29E3C-0AAA-4B2E-804D-D78CE5F7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1ED7A-4E14-409A-8330-C46757B7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07EAA-C386-45FE-AAD9-A2CC39C7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6F9E0-5F17-4038-B146-45C116DA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D1040-C09D-4812-8E0C-7050BA1A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6D9F5-802F-4BED-BAF9-C8E2F4F5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F0452-72A4-4837-A90C-78C222CE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8D45-5C7F-4B04-92C5-FAED1023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A50E3-F02A-482E-8B84-3923B919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212C2-9335-496A-BFC5-44062836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A0D57-4666-4E16-9901-33B5B313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376BF-440D-4D8B-B67C-B7DC7DF9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2B69A-BD0C-432F-8078-BC4782AD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8B95C-B612-4B46-AE22-2D338085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80A4B-C444-42C1-BADF-4CB49AE4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D6C07-F032-47C3-A5DF-188E3100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B90A0-B8AB-427F-A732-02CAE8F8D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F49AC-67B2-4BDD-B1BE-0F81CA53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8B94-411B-4F58-B128-EE9FE7D1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2ABEA-0F55-4489-AF6C-1D06DA88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45DAD-3F11-49F3-8253-E30E39A7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F7F44-036D-4276-B45F-AFF427F0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BE814-1756-4FD7-9FEC-0BE520E9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5B587-AF98-4C96-BCDC-448428F7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27EC9-6883-4602-81FF-570C3347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F24CF-7CAE-43D4-9E85-7EDCF909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A2223-598E-4268-B3C9-BF54AA4D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6ACD5-C85A-4D68-B1AE-BF960304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69E80-D6EB-4CAF-A490-5C37E276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C55B-F7C0-4F3C-A895-A4B0C3C5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11593-2550-47B5-BAD3-C0B86DAA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B856E-924A-4680-B1A3-AAAFB16B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51E5C-B3F1-4633-ACBB-CECB56BB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A8FC1-4656-4CEF-AF78-902B5966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76F7E-5234-4AA5-92E4-1A665D3B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729DD-1365-4529-8685-AAB0E860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18579-38D0-477D-8D0A-555D3BEF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18D0D-1FB3-4093-B0E6-D3574344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CA334-8620-4038-BBD7-33148AC9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8E3C1-2B4D-4180-B99D-0BAC03D1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F140-7387-4D6D-9F93-FCB83FB7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5F27A-B0F4-4807-89D5-9E9CA667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F47B77-3A07-4F50-8400-ED0F3800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3FA69-D595-4B77-9DE9-366A6F1F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749C6-F000-4492-A1DA-D4ABDE059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8EAF5-F16C-415E-96C3-699A3837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9527C-7E34-4BE3-9584-BBA3218F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6FB7A-3228-4290-AE2E-03C5C730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58D0E-50CB-445E-B3B1-1593ED45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8C562-F62F-486C-B8D6-643D3AC8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CBA18-0555-4936-B1C2-637234E2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42D-3F08-4E5E-8BE1-4E5CC62B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6974E-BC33-4545-8D63-330A1D2D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B6824-D00B-46BD-8DE1-3C20C9DC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A638A7-7809-419D-8196-D86EA66A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43CC5-022E-4EB1-9F3A-884DB701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6356B-1E10-483A-8DDC-74B3B381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C28E1-D8B2-4FDA-9570-9765FCF5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A0203-5605-4C6F-B4D4-63328894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F6F5A-5043-4A91-9729-2111696C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A2F29-D45A-492D-87F6-2A8AD710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21DCD-DA3A-435F-98EC-21FB484B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A9B2-A20B-4A4E-AD3F-317D3C3C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B21D5-E766-4B4A-92B0-A9244563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A6470-7F99-4DED-A376-1FC76203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12B75-A598-4F32-856B-22F30BD6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FAC10-E920-49B7-83E1-3E65BCA2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8470B-FA62-40B7-B87B-06EDBF96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C21C0-CAB2-4176-8BFA-B159C167A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9E8A8-01E7-4387-825C-E5676A40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8C04E-42BA-4EB4-9B64-92C7FFC9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5100D-16CF-43BA-9DE5-362CD596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FF589-5A31-4BD6-8811-177AD817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E0C4-1860-4078-BCCF-3563EDB5F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819160" y="1828800"/>
            <a:ext cx="464796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dt" idx="28"/>
          </p:nvPr>
        </p:nvSpPr>
        <p:spPr>
          <a:xfrm>
            <a:off x="15235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29"/>
          </p:nvPr>
        </p:nvSpPr>
        <p:spPr>
          <a:xfrm>
            <a:off x="34290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sldNum" idx="30"/>
          </p:nvPr>
        </p:nvSpPr>
        <p:spPr>
          <a:xfrm>
            <a:off x="67813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59FD-8EDA-4F61-A93A-A0506F39E05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24D6-2349-41D1-82F3-013AF0349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Lucida Handwriting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590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B766-1C05-4BB7-B764-386ED7B8E4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520" y="9140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Lucida Handwriting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Lucida Handwriting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11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BF84-EC32-4C18-BB98-FF43441364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31480" indent="-22608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84000" indent="-22608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36520" indent="-22608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36520" indent="-22608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4FE6-790C-4CE1-9E73-81190BDA0CB2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6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17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8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AA03-4BF7-4F2A-909D-C2F152710242}" type="slidenum"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182E-CDA9-4975-9764-FD208C460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6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8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9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9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9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C807-A882-44AB-9944-A17B4B73A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4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4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5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5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dt" idx="25"/>
          </p:nvPr>
        </p:nvSpPr>
        <p:spPr>
          <a:xfrm>
            <a:off x="1599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3352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sldNum" idx="2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7B36-D4AF-452B-90EE-1C3F99BB5DD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body"/>
          </p:nvPr>
        </p:nvSpPr>
        <p:spPr>
          <a:xfrm>
            <a:off x="1600200" y="1904760"/>
            <a:ext cx="7238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7238880" y="2971800"/>
            <a:ext cx="1336680" cy="243828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2209680" y="3124080"/>
            <a:ext cx="1494000" cy="236232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2819520" y="0"/>
            <a:ext cx="4800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Quiz Show</a:t>
            </a:r>
            <a:endParaRPr b="0" lang="en-US" sz="60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>
            <a:hlinkClick r:id="" action="ppaction://hlinkshowjump?jump=las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" action="ppaction://hlinkshowjump?jump=las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" action="ppaction://hlinkshowjump?jump=las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>
            <a:hlinkClick r:id="" action="ppaction://hlinkshowjump?jump=las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>
            <a:hlinkClick r:id="" action="ppaction://hlinkshowjump?jump=las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>
            <a:hlinkClick r:id="" action="ppaction://hlinkshowjump?jump=las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" action="ppaction://hlinkshowjump?jump=nex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" action="ppaction://hlinkshowjump?jump=nex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4038480" y="1066680"/>
                <a:ext cx="129564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1" name=""/>
              <p:cNvSpPr txBox="1"/>
              <p:nvPr/>
            </p:nvSpPr>
            <p:spPr>
              <a:xfrm>
                <a:off x="2057400" y="3276720"/>
                <a:ext cx="13669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057400" y="2514600"/>
                <a:ext cx="136692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³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2057400" y="4038480"/>
                <a:ext cx="115884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2057400" y="4800600"/>
                <a:ext cx="11620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³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809880" y="2133720"/>
            <a:ext cx="37339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>
            <a:hlinkClick r:id="" action="ppaction://hlinkshowjump?jump=nex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>
            <a:hlinkClick r:id="" action="ppaction://hlinkshowjump?jump=nex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676520" y="25146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>
            <a:hlinkClick r:id="" action="ppaction://hlinkshowjump?jump=las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>
            <a:hlinkClick r:id="" action="ppaction://hlinkshowjump?jump=las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>
            <a:hlinkClick r:id="" action="ppaction://hlinkshowjump?jump=las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676520" y="4800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>
            <a:hlinkClick r:id="" action="ppaction://hlinkshowjump?jump=las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676520" y="40384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676520" y="32767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>
            <a:hlinkClick r:id="" action="ppaction://hlinkshowjump?jump=las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>
            <a:hlinkClick r:id="" action="ppaction://hlinkshowjump?jump=las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r x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"/>
              <p:cNvSpPr txBox="1"/>
              <p:nvPr/>
            </p:nvSpPr>
            <p:spPr>
              <a:xfrm>
                <a:off x="3505320" y="990720"/>
                <a:ext cx="20700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3886200" y="2209680"/>
            <a:ext cx="37339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>
            <a:hlinkClick r:id="" action="ppaction://hlinkshowjump?jump=las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>
            <a:hlinkClick r:id="" action="ppaction://hlinkshowjump?jump=las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>
            <a:hlinkClick r:id="" action="ppaction://hlinkshowjump?jump=las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>
            <a:hlinkClick r:id="" action="ppaction://hlinkshowjump?jump=las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>
            <a:hlinkClick r:id="" action="ppaction://hlinkshowjump?jump=las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>
            <a:hlinkClick r:id="" action="ppaction://hlinkshowjump?jump=las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>
            <a:hlinkClick r:id="" action="ppaction://hlinkshowjump?jump=nex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>
            <a:hlinkClick r:id="" action="ppaction://hlinkshowjump?jump=nex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y using the laws of exponents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4191120" y="914400"/>
                <a:ext cx="7077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1981080" y="3962520"/>
                <a:ext cx="533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1828800" y="2438280"/>
                <a:ext cx="6620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"/>
              <p:cNvSpPr txBox="1"/>
              <p:nvPr/>
            </p:nvSpPr>
            <p:spPr>
              <a:xfrm>
                <a:off x="2057400" y="3200400"/>
                <a:ext cx="414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1898640" y="4724280"/>
                <a:ext cx="6620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429000" y="2209680"/>
            <a:ext cx="37339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" action="ppaction://hlinkshowjump?jump=las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>
            <a:hlinkClick r:id="" action="ppaction://hlinkshowjump?jump=las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>
            <a:hlinkClick r:id="" action="ppaction://hlinkshowjump?jump=las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76520" y="4800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" action="ppaction://hlinkshowjump?jump=las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676520" y="40384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676520" y="2514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>
            <a:hlinkClick r:id="" action="ppaction://hlinkshowjump?jump=las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>
            <a:hlinkClick r:id="" action="ppaction://hlinkshowjump?jump=las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>
            <a:hlinkClick r:id="" action="ppaction://hlinkshowjump?jump=nex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>
            <a:hlinkClick r:id="" action="ppaction://hlinkshowjump?jump=nex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676520" y="32767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 m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A zebra can run at a speed of 35 miles per hour.  If the zebra could run at that speed for    of an hour, what distance would the zebra run?  Use the formula d=rt, where </a:t>
            </a:r>
            <a:r>
              <a:rPr b="0" i="1" lang="en-US" sz="2400" spc="-1" strike="noStrike">
                <a:solidFill>
                  <a:srgbClr val="221304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 is the distance, </a:t>
            </a:r>
            <a:r>
              <a:rPr b="0" i="1" lang="en-US" sz="2400" spc="-1" strike="noStrike">
                <a:solidFill>
                  <a:srgbClr val="221304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 is the rate of speed, and </a:t>
            </a:r>
            <a:r>
              <a:rPr b="0" i="1" lang="en-US" sz="2400" spc="-1" strike="noStrike">
                <a:solidFill>
                  <a:srgbClr val="221304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 is the amount of time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4419720" y="685800"/>
                <a:ext cx="222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505320" y="2133720"/>
            <a:ext cx="37335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762120" y="7621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>
            <a:hlinkClick r:id="" action="ppaction://hlinkshowjump?jump=lastslide"/>
          </p:cNvPr>
          <p:cNvSpPr/>
          <p:nvPr/>
        </p:nvSpPr>
        <p:spPr>
          <a:xfrm>
            <a:off x="1066680" y="41911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>
            <a:hlinkClick r:id="" action="ppaction://hlinkshowjump?jump=lastslide"/>
          </p:cNvPr>
          <p:cNvSpPr/>
          <p:nvPr/>
        </p:nvSpPr>
        <p:spPr>
          <a:xfrm>
            <a:off x="1066680" y="19810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>
            <a:hlinkClick r:id="" action="ppaction://hlinkshowjump?jump=lastslide"/>
          </p:cNvPr>
          <p:cNvSpPr/>
          <p:nvPr/>
        </p:nvSpPr>
        <p:spPr>
          <a:xfrm>
            <a:off x="1066680" y="20574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>
            <a:hlinkClick r:id="" action="ppaction://hlinkshowjump?jump=lastslide"/>
          </p:cNvPr>
          <p:cNvSpPr/>
          <p:nvPr/>
        </p:nvSpPr>
        <p:spPr>
          <a:xfrm>
            <a:off x="1066680" y="4267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>
            <a:hlinkClick r:id="" action="ppaction://hlinkshowjump?jump=lastslide"/>
          </p:cNvPr>
          <p:cNvSpPr/>
          <p:nvPr/>
        </p:nvSpPr>
        <p:spPr>
          <a:xfrm>
            <a:off x="1066680" y="31240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>
            <a:hlinkClick r:id="" action="ppaction://hlinkshowjump?jump=lastslide"/>
          </p:cNvPr>
          <p:cNvSpPr/>
          <p:nvPr/>
        </p:nvSpPr>
        <p:spPr>
          <a:xfrm>
            <a:off x="1066680" y="3276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1066680" y="54864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" action="ppaction://hlinkshowjump?jump=nextslide"/>
          </p:cNvPr>
          <p:cNvSpPr/>
          <p:nvPr/>
        </p:nvSpPr>
        <p:spPr>
          <a:xfrm>
            <a:off x="1066680" y="5562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graph shows the solu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               ?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4191120" y="990720"/>
                <a:ext cx="14605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"/>
          <p:cNvSpPr/>
          <p:nvPr/>
        </p:nvSpPr>
        <p:spPr>
          <a:xfrm>
            <a:off x="2209680" y="5715000"/>
            <a:ext cx="4724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74320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58128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49568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400800" y="5562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4382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3526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343400" y="5943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10552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5880" y="5943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438280" y="4419720"/>
            <a:ext cx="47246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9718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098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7242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638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6294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66688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58128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572000" y="4648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3412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324480" y="4648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514600" y="198108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04812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862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8006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71500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0572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7432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6576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648320" y="2209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00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4008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590920" y="3200400"/>
            <a:ext cx="4724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6252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87692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79132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78168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81952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73392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724280" y="34290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8640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47712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57800" y="5562720"/>
            <a:ext cx="304920" cy="304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1828800"/>
            <a:ext cx="304560" cy="304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638680" y="3048120"/>
            <a:ext cx="304920" cy="304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486400" y="4267080"/>
            <a:ext cx="304920" cy="304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048120" y="571500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3276720" y="441972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943600" y="32004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67280" y="1981080"/>
            <a:ext cx="838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3581280" y="2209680"/>
            <a:ext cx="37339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>
            <a:hlinkClick r:id="" action="ppaction://hlinkshowjump?jump=nex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>
            <a:hlinkClick r:id="" action="ppaction://hlinkshowjump?jump=nex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6520" y="25146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>
            <a:hlinkClick r:id="" action="ppaction://hlinkshowjump?jump=las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" action="ppaction://hlinkshowjump?jump=las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" action="ppaction://hlinkshowjump?jump=las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76520" y="4800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>
            <a:hlinkClick r:id="" action="ppaction://hlinkshowjump?jump=las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676520" y="40384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676520" y="32767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>
            <a:hlinkClick r:id="" action="ppaction://hlinkshowjump?jump=las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>
            <a:hlinkClick r:id="" action="ppaction://hlinkshowjump?jump=las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Solve.</a:t>
            </a: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3352680" y="1066680"/>
                <a:ext cx="320040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4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¸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>
            <a:hlinkClick r:id="" action="ppaction://hlinkshowjump?jump=nextslide"/>
          </p:cNvPr>
          <p:cNvSpPr/>
          <p:nvPr/>
        </p:nvSpPr>
        <p:spPr>
          <a:xfrm>
            <a:off x="1066680" y="24382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>
            <a:hlinkClick r:id="" action="ppaction://hlinkshowjump?jump=nextslide"/>
          </p:cNvPr>
          <p:cNvSpPr/>
          <p:nvPr/>
        </p:nvSpPr>
        <p:spPr>
          <a:xfrm>
            <a:off x="1066680" y="2514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>
            <a:hlinkClick r:id="" action="ppaction://hlinkshowjump?jump=lastslide"/>
          </p:cNvPr>
          <p:cNvSpPr/>
          <p:nvPr/>
        </p:nvSpPr>
        <p:spPr>
          <a:xfrm>
            <a:off x="1066680" y="434340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>
            <a:hlinkClick r:id="" action="ppaction://hlinkshowjump?jump=lastslide"/>
          </p:cNvPr>
          <p:cNvSpPr/>
          <p:nvPr/>
        </p:nvSpPr>
        <p:spPr>
          <a:xfrm>
            <a:off x="1066680" y="533412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>
            <a:hlinkClick r:id="" action="ppaction://hlinkshowjump?jump=lastslide"/>
          </p:cNvPr>
          <p:cNvSpPr/>
          <p:nvPr/>
        </p:nvSpPr>
        <p:spPr>
          <a:xfrm>
            <a:off x="1066680" y="5410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>
            <a:hlinkClick r:id="" action="ppaction://hlinkshowjump?jump=lastslide"/>
          </p:cNvPr>
          <p:cNvSpPr/>
          <p:nvPr/>
        </p:nvSpPr>
        <p:spPr>
          <a:xfrm>
            <a:off x="1066680" y="4495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>
            <a:hlinkClick r:id="" action="ppaction://hlinkshowjump?jump=lastslide"/>
          </p:cNvPr>
          <p:cNvSpPr/>
          <p:nvPr/>
        </p:nvSpPr>
        <p:spPr>
          <a:xfrm>
            <a:off x="1066680" y="33526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>
            <a:hlinkClick r:id="" action="ppaction://hlinkshowjump?jump=lastslide"/>
          </p:cNvPr>
          <p:cNvSpPr/>
          <p:nvPr/>
        </p:nvSpPr>
        <p:spPr>
          <a:xfrm>
            <a:off x="10666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nna has greater than a quarter of the amount of baseball cards than Marty.  If the amount of cards Jenna has is represented b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amount of cards Marty has is represent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inequality represents this situation?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2133720" y="2362320"/>
                <a:ext cx="9525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3" name=""/>
              <p:cNvSpPr txBox="1"/>
              <p:nvPr/>
            </p:nvSpPr>
            <p:spPr>
              <a:xfrm>
                <a:off x="2133720" y="3352680"/>
                <a:ext cx="9525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4" name=""/>
              <p:cNvSpPr txBox="1"/>
              <p:nvPr/>
            </p:nvSpPr>
            <p:spPr>
              <a:xfrm>
                <a:off x="2209680" y="4343400"/>
                <a:ext cx="9525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133720" y="5257800"/>
                <a:ext cx="9525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gt;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657600" y="2209680"/>
            <a:ext cx="37339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>
            <a:hlinkClick r:id="" action="ppaction://hlinkshowjump?jump=nextslide"/>
          </p:cNvPr>
          <p:cNvSpPr/>
          <p:nvPr/>
        </p:nvSpPr>
        <p:spPr>
          <a:xfrm>
            <a:off x="990720" y="33526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>
            <a:hlinkClick r:id="" action="ppaction://hlinkshowjump?jump=nextslide"/>
          </p:cNvPr>
          <p:cNvSpPr/>
          <p:nvPr/>
        </p:nvSpPr>
        <p:spPr>
          <a:xfrm>
            <a:off x="1066680" y="3505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>
            <a:hlinkClick r:id="" action="ppaction://hlinkshowjump?jump=lastslide"/>
          </p:cNvPr>
          <p:cNvSpPr/>
          <p:nvPr/>
        </p:nvSpPr>
        <p:spPr>
          <a:xfrm>
            <a:off x="990720" y="4876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>
            <a:hlinkClick r:id="" action="ppaction://hlinkshowjump?jump=lastslide"/>
          </p:cNvPr>
          <p:cNvSpPr/>
          <p:nvPr/>
        </p:nvSpPr>
        <p:spPr>
          <a:xfrm>
            <a:off x="990720" y="57150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>
            <a:hlinkClick r:id="" action="ppaction://hlinkshowjump?jump=lastslide"/>
          </p:cNvPr>
          <p:cNvSpPr/>
          <p:nvPr/>
        </p:nvSpPr>
        <p:spPr>
          <a:xfrm>
            <a:off x="1066680" y="5791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>
            <a:hlinkClick r:id="" action="ppaction://hlinkshowjump?jump=lastslide"/>
          </p:cNvPr>
          <p:cNvSpPr/>
          <p:nvPr/>
        </p:nvSpPr>
        <p:spPr>
          <a:xfrm>
            <a:off x="1066680" y="5029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>
            <a:hlinkClick r:id="" action="ppaction://hlinkshowjump?jump=lastslide"/>
          </p:cNvPr>
          <p:cNvSpPr/>
          <p:nvPr/>
        </p:nvSpPr>
        <p:spPr>
          <a:xfrm>
            <a:off x="990720" y="41148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>
            <a:hlinkClick r:id="" action="ppaction://hlinkshowjump?jump=lastslide"/>
          </p:cNvPr>
          <p:cNvSpPr/>
          <p:nvPr/>
        </p:nvSpPr>
        <p:spPr>
          <a:xfrm>
            <a:off x="1066680" y="4267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42640" y="1371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st (in dollars) to rent a car at Pokey Car Rental Company can be determined by using the formula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 + 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umber of days rented, and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number of miles driven above the allowance.  What is the full cost of renting a car for 7 days if you drove 30 miles over the allowance?</a:t>
            </a:r>
            <a:br>
              <a:rPr sz="2400"/>
            </a:b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2362320" y="34282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2285280" y="41900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2362320" y="487584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2362320" y="563796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3276720" y="2286000"/>
            <a:ext cx="37335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>
            <a:hlinkClick r:id="" action="ppaction://hlinkshowjump?jump=las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>
            <a:hlinkClick r:id="" action="ppaction://hlinkshowjump?jump=las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>
            <a:hlinkClick r:id="" action="ppaction://hlinkshowjump?jump=las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752480" y="48006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3, y =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>
            <a:hlinkClick r:id="" action="ppaction://hlinkshowjump?jump=las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>
            <a:hlinkClick r:id="" action="ppaction://hlinkshowjump?jump=las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>
            <a:hlinkClick r:id="" action="ppaction://hlinkshowjump?jump=las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>
            <a:hlinkClick r:id="" action="ppaction://hlinkshowjump?jump=nex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>
            <a:hlinkClick r:id="" action="ppaction://hlinkshowjump?jump=nex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Find the missing values</a:t>
            </a:r>
            <a:br>
              <a:rPr sz="2800"/>
            </a:b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in the table below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754280" y="4037400"/>
            <a:ext cx="189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10, y 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754280" y="2513520"/>
            <a:ext cx="1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2, y =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754280" y="3275640"/>
            <a:ext cx="1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4, y =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1981080" y="1905120"/>
          <a:ext cx="5600880" cy="340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05120"/>
                    <a:ext cx="5600880" cy="34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0" name=""/>
          <p:cNvSpPr/>
          <p:nvPr/>
        </p:nvSpPr>
        <p:spPr>
          <a:xfrm>
            <a:off x="4713840" y="22086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:  3x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3809880" y="2209680"/>
            <a:ext cx="37339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>
            <a:hlinkClick r:id="" action="ppaction://hlinkshowjump?jump=lastslide"/>
          </p:cNvPr>
          <p:cNvSpPr/>
          <p:nvPr/>
        </p:nvSpPr>
        <p:spPr>
          <a:xfrm>
            <a:off x="1066680" y="1752480"/>
            <a:ext cx="609840" cy="60984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>
            <a:hlinkClick r:id="" action="ppaction://hlinkshowjump?jump=lastslide"/>
          </p:cNvPr>
          <p:cNvSpPr/>
          <p:nvPr/>
        </p:nvSpPr>
        <p:spPr>
          <a:xfrm>
            <a:off x="1066680" y="52578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>
            <a:hlinkClick r:id="" action="ppaction://hlinkshowjump?jump=lastslide"/>
          </p:cNvPr>
          <p:cNvSpPr/>
          <p:nvPr/>
        </p:nvSpPr>
        <p:spPr>
          <a:xfrm>
            <a:off x="1066680" y="5334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>
            <a:hlinkClick r:id="" action="ppaction://hlinkshowjump?jump=lastslide"/>
          </p:cNvPr>
          <p:cNvSpPr/>
          <p:nvPr/>
        </p:nvSpPr>
        <p:spPr>
          <a:xfrm>
            <a:off x="1066680" y="1828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>
            <a:hlinkClick r:id="" action="ppaction://hlinkshowjump?jump=lastslide"/>
          </p:cNvPr>
          <p:cNvSpPr/>
          <p:nvPr/>
        </p:nvSpPr>
        <p:spPr>
          <a:xfrm>
            <a:off x="1066680" y="29718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>
            <a:hlinkClick r:id="" action="ppaction://hlinkshowjump?jump=lastslide"/>
          </p:cNvPr>
          <p:cNvSpPr/>
          <p:nvPr/>
        </p:nvSpPr>
        <p:spPr>
          <a:xfrm>
            <a:off x="1066680" y="3048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>
            <a:hlinkClick r:id="" action="ppaction://hlinkshowjump?jump=nextslide"/>
          </p:cNvPr>
          <p:cNvSpPr/>
          <p:nvPr/>
        </p:nvSpPr>
        <p:spPr>
          <a:xfrm>
            <a:off x="1066680" y="41148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>
            <a:hlinkClick r:id="" action="ppaction://hlinkshowjump?jump=nextslide"/>
          </p:cNvPr>
          <p:cNvSpPr/>
          <p:nvPr/>
        </p:nvSpPr>
        <p:spPr>
          <a:xfrm>
            <a:off x="1066680" y="4191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expression means sixteen less than one-seventh of a number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1905120" y="4038480"/>
                <a:ext cx="10922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2021040" y="5364000"/>
                <a:ext cx="101124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1905120" y="1676520"/>
                <a:ext cx="10922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2014560" y="2895480"/>
                <a:ext cx="8730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4038480" y="2209680"/>
            <a:ext cx="37339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>
            <a:hlinkClick r:id="" action="ppaction://hlinkshowjump?jump=las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>
            <a:hlinkClick r:id="" action="ppaction://hlinkshowjump?jump=las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" action="ppaction://hlinkshowjump?jump=las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676520" y="2514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9, y =1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>
            <a:hlinkClick r:id="" action="ppaction://hlinkshowjump?jump=las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676520" y="40384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11, y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76520" y="32767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4, y 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>
            <a:hlinkClick r:id="" action="ppaction://hlinkshowjump?jump=las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>
            <a:hlinkClick r:id="" action="ppaction://hlinkshowjump?jump=las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>
            <a:hlinkClick r:id="" action="ppaction://hlinkshowjump?jump=nex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>
            <a:hlinkClick r:id="" action="ppaction://hlinkshowjump?jump=nex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676520" y="48006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= 4, y =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missing values in the function table below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1828800" y="2819520"/>
          <a:ext cx="5651640" cy="225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819520"/>
                    <a:ext cx="565164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5" name=""/>
          <p:cNvSpPr/>
          <p:nvPr/>
        </p:nvSpPr>
        <p:spPr>
          <a:xfrm>
            <a:off x="5639400" y="22086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:  3x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3505320" y="2209680"/>
            <a:ext cx="373356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733920" y="2133720"/>
            <a:ext cx="37335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>
            <a:hlinkClick r:id="" action="ppaction://hlinkshowjump?jump=las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>
            <a:hlinkClick r:id="" action="ppaction://hlinkshowjump?jump=las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>
            <a:hlinkClick r:id="" action="ppaction://hlinkshowjump?jump=las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76520" y="4800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m =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>
            <a:hlinkClick r:id="" action="ppaction://hlinkshowjump?jump=las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76520" y="40384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676520" y="2514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 + 6 =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>
            <a:hlinkClick r:id="" action="ppaction://hlinkshowjump?jump=las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>
            <a:hlinkClick r:id="" action="ppaction://hlinkshowjump?jump=las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>
            <a:hlinkClick r:id="" action="ppaction://hlinkshowjump?jump=nex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>
            <a:hlinkClick r:id="" action="ppaction://hlinkshowjump?jump=nex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676520" y="32767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+ 6 = 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 Lin ha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ooks.  If he had 6 more, he would have 36.  What equation represents the number of books Quan Lin has?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505320" y="2209680"/>
            <a:ext cx="373356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>
            <a:hlinkClick r:id="" action="ppaction://hlinkshowjump?jump=nex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>
            <a:hlinkClick r:id="" action="ppaction://hlinkshowjump?jump=nex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76520" y="25146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>
            <a:hlinkClick r:id="" action="ppaction://hlinkshowjump?jump=las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>
            <a:hlinkClick r:id="" action="ppaction://hlinkshowjump?jump=las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>
            <a:hlinkClick r:id="" action="ppaction://hlinkshowjump?jump=las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>
            <a:hlinkClick r:id="" action="ppaction://hlinkshowjump?jump=las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676520" y="40384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676520" y="32767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>
            <a:hlinkClick r:id="" action="ppaction://hlinkshowjump?jump=las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>
            <a:hlinkClick r:id="" action="ppaction://hlinkshowjump?jump=las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123720" y="45684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culate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5029200" y="609480"/>
                <a:ext cx="132084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752480" y="4724280"/>
                <a:ext cx="48276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352680" y="2209680"/>
            <a:ext cx="37339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>
            <a:hlinkClick r:id="" action="ppaction://hlinkshowjump?jump=las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>
            <a:hlinkClick r:id="" action="ppaction://hlinkshowjump?jump=las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>
            <a:hlinkClick r:id="" action="ppaction://hlinkshowjump?jump=las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676520" y="4800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>
            <a:hlinkClick r:id="" action="ppaction://hlinkshowjump?jump=las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676520" y="2514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676520" y="32767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>
            <a:hlinkClick r:id="" action="ppaction://hlinkshowjump?jump=las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>
            <a:hlinkClick r:id="" action="ppaction://hlinkshowjump?jump=las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>
            <a:hlinkClick r:id="" action="ppaction://hlinkshowjump?jump=nex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676520" y="40384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285640" y="456840"/>
            <a:ext cx="160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3819600" y="685800"/>
                <a:ext cx="34099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3733920" y="2286000"/>
            <a:ext cx="37335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>
            <a:hlinkClick r:id="" action="ppaction://hlinkshowjump?jump=las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>
            <a:hlinkClick r:id="" action="ppaction://hlinkshowjump?jump=las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>
            <a:hlinkClick r:id="" action="ppaction://hlinkshowjump?jump=las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676520" y="4800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>
            <a:hlinkClick r:id="" action="ppaction://hlinkshowjump?jump=las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676520" y="40384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676520" y="2514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>
            <a:hlinkClick r:id="" action="ppaction://hlinkshowjump?jump=las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>
            <a:hlinkClick r:id="" action="ppaction://hlinkshowjump?jump=las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>
            <a:hlinkClick r:id="" action="ppaction://hlinkshowjump?jump=nex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>
            <a:hlinkClick r:id="" action="ppaction://hlinkshowjump?jump=nex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676520" y="32767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the value of the expression below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3048120" y="1981080"/>
                <a:ext cx="4173480" cy="71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´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¸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3505320" y="2209680"/>
            <a:ext cx="373356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2514600" y="533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>
            <a:hlinkClick r:id="" action="ppaction://hlinkshowjump?jump=las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676520" y="2514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>
            <a:hlinkClick r:id="" action="ppaction://hlinkshowjump?jump=las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676520" y="403848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1676520" y="32767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>
            <a:hlinkClick r:id="" action="ppaction://hlinkshowjump?jump=las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>
            <a:hlinkClick r:id="" action="ppaction://hlinkshowjump?jump=las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>
            <a:hlinkClick r:id="" action="ppaction://hlinkshowjump?jump=nextslide"/>
          </p:cNvPr>
          <p:cNvSpPr/>
          <p:nvPr/>
        </p:nvSpPr>
        <p:spPr>
          <a:xfrm>
            <a:off x="990720" y="4800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676520" y="48769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4419720" y="304920"/>
                <a:ext cx="1842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8" name=""/>
          <p:cNvSpPr/>
          <p:nvPr/>
        </p:nvSpPr>
        <p:spPr>
          <a:xfrm>
            <a:off x="2124000" y="1523160"/>
            <a:ext cx="488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x = 5, y = 15, and w =  2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99072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352680" y="2209680"/>
            <a:ext cx="37339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>
            <a:hlinkClick r:id="" action="ppaction://hlinkshowjump?jump=las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>
            <a:hlinkClick r:id="" action="ppaction://hlinkshowjump?jump=las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>
            <a:hlinkClick r:id="" action="ppaction://hlinkshowjump?jump=las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>
            <a:hlinkClick r:id="" action="ppaction://hlinkshowjump?jump=las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>
            <a:hlinkClick r:id="" action="ppaction://hlinkshowjump?jump=las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>
            <a:hlinkClick r:id="" action="ppaction://hlinkshowjump?jump=las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>
            <a:hlinkClick r:id="" action="ppaction://hlinkshowjump?jump=nex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>
            <a:hlinkClick r:id="" action="ppaction://hlinkshowjump?jump=nex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A boat taxi charges a fee of $5, and an additional $0.85 per mile. Let </a:t>
            </a:r>
            <a:r>
              <a:rPr b="0" i="1" lang="en-US" sz="2400" spc="-1" strike="noStrike">
                <a:solidFill>
                  <a:srgbClr val="221304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221304"/>
                </a:solidFill>
                <a:latin typeface="Times New Roman"/>
              </a:rPr>
              <a:t> represent the number of miles. Choose the expression that models the cost of the ride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2057400" y="4038480"/>
                <a:ext cx="1828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2057400" y="3276720"/>
                <a:ext cx="1881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2057400" y="4800600"/>
                <a:ext cx="1447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5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2151000" y="2577960"/>
                <a:ext cx="16938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>
            <a:hlinkClick r:id="" action="ppaction://hlinkshowjump?jump=nextslide"/>
          </p:cNvPr>
          <p:cNvSpPr/>
          <p:nvPr/>
        </p:nvSpPr>
        <p:spPr>
          <a:xfrm>
            <a:off x="1143000" y="31240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>
            <a:hlinkClick r:id="" action="ppaction://hlinkshowjump?jump=nextslide"/>
          </p:cNvPr>
          <p:cNvSpPr/>
          <p:nvPr/>
        </p:nvSpPr>
        <p:spPr>
          <a:xfrm>
            <a:off x="11430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7524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the x value increases, the y value de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>
            <a:hlinkClick r:id="" action="ppaction://hlinkshowjump?jump=lastslide"/>
          </p:cNvPr>
          <p:cNvSpPr/>
          <p:nvPr/>
        </p:nvSpPr>
        <p:spPr>
          <a:xfrm>
            <a:off x="1143000" y="48769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>
            <a:hlinkClick r:id="" action="ppaction://hlinkshowjump?jump=lastslide"/>
          </p:cNvPr>
          <p:cNvSpPr/>
          <p:nvPr/>
        </p:nvSpPr>
        <p:spPr>
          <a:xfrm>
            <a:off x="1143000" y="57913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>
            <a:hlinkClick r:id="" action="ppaction://hlinkshowjump?jump=lastslide"/>
          </p:cNvPr>
          <p:cNvSpPr/>
          <p:nvPr/>
        </p:nvSpPr>
        <p:spPr>
          <a:xfrm>
            <a:off x="1143000" y="5867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>
            <a:hlinkClick r:id="" action="ppaction://hlinkshowjump?jump=lastslide"/>
          </p:cNvPr>
          <p:cNvSpPr/>
          <p:nvPr/>
        </p:nvSpPr>
        <p:spPr>
          <a:xfrm>
            <a:off x="114300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>
            <a:hlinkClick r:id="" action="ppaction://hlinkshowjump?jump=lastslide"/>
          </p:cNvPr>
          <p:cNvSpPr/>
          <p:nvPr/>
        </p:nvSpPr>
        <p:spPr>
          <a:xfrm>
            <a:off x="1143000" y="40384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>
            <a:hlinkClick r:id="" action="ppaction://hlinkshowjump?jump=lastslide"/>
          </p:cNvPr>
          <p:cNvSpPr/>
          <p:nvPr/>
        </p:nvSpPr>
        <p:spPr>
          <a:xfrm>
            <a:off x="1143000" y="4114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the information in the table below to determine which statement is true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863" name=""/>
          <p:cNvGraphicFramePr/>
          <p:nvPr/>
        </p:nvGraphicFramePr>
        <p:xfrm>
          <a:off x="1371600" y="1371600"/>
          <a:ext cx="6478560" cy="141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64785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5" name=""/>
          <p:cNvSpPr/>
          <p:nvPr/>
        </p:nvSpPr>
        <p:spPr>
          <a:xfrm>
            <a:off x="1752480" y="41148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the x value increases, the y value in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676520" y="4952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the x value decreases, the y value decr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828800" y="57150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the x value decreases, the y value remains cons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3200400" y="2133720"/>
            <a:ext cx="37339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>
            <a:hlinkClick r:id="" action="ppaction://hlinkshowjump?jump=firstslide"/>
          </p:cNvPr>
          <p:cNvSpPr/>
          <p:nvPr/>
        </p:nvSpPr>
        <p:spPr>
          <a:xfrm>
            <a:off x="8077320" y="5943600"/>
            <a:ext cx="662040" cy="609480"/>
          </a:xfrm>
          <a:custGeom>
            <a:avLst/>
            <a:gdLst>
              <a:gd name="textAreaLeft" fmla="*/ 39240 w 662040"/>
              <a:gd name="textAreaRight" fmla="*/ 622800 w 6620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3462" h="21600">
                <a:moveTo>
                  <a:pt x="0" y="0"/>
                </a:moveTo>
                <a:lnTo>
                  <a:pt x="23462" y="0"/>
                </a:lnTo>
                <a:lnTo>
                  <a:pt x="23462" y="21600"/>
                </a:lnTo>
                <a:lnTo>
                  <a:pt x="0" y="21600"/>
                </a:lnTo>
                <a:close/>
              </a:path>
              <a:path fill="lightenLess" w="23462" h="21600">
                <a:moveTo>
                  <a:pt x="0" y="0"/>
                </a:moveTo>
                <a:lnTo>
                  <a:pt x="23462" y="0"/>
                </a:lnTo>
                <a:lnTo>
                  <a:pt x="22062" y="1400"/>
                </a:lnTo>
                <a:lnTo>
                  <a:pt x="1400" y="1400"/>
                </a:lnTo>
                <a:close/>
              </a:path>
              <a:path fill="darken" w="23462" h="21600">
                <a:moveTo>
                  <a:pt x="23462" y="0"/>
                </a:moveTo>
                <a:lnTo>
                  <a:pt x="23462" y="21600"/>
                </a:lnTo>
                <a:lnTo>
                  <a:pt x="22062" y="20200"/>
                </a:lnTo>
                <a:lnTo>
                  <a:pt x="22062" y="1400"/>
                </a:lnTo>
                <a:close/>
              </a:path>
              <a:path fill="darkenLess" w="23462" h="21600">
                <a:moveTo>
                  <a:pt x="234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62" y="20200"/>
                </a:lnTo>
                <a:close/>
              </a:path>
              <a:path fill="lighten" w="234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62" h="21600">
                <a:moveTo>
                  <a:pt x="11731" y="3837"/>
                </a:moveTo>
                <a:lnTo>
                  <a:pt x="14307" y="6448"/>
                </a:lnTo>
                <a:lnTo>
                  <a:pt x="14307" y="4707"/>
                </a:lnTo>
                <a:lnTo>
                  <a:pt x="16083" y="4707"/>
                </a:lnTo>
                <a:lnTo>
                  <a:pt x="16083" y="8224"/>
                </a:lnTo>
                <a:lnTo>
                  <a:pt x="18694" y="10800"/>
                </a:lnTo>
                <a:lnTo>
                  <a:pt x="17040" y="10800"/>
                </a:lnTo>
                <a:lnTo>
                  <a:pt x="17040" y="17989"/>
                </a:lnTo>
                <a:lnTo>
                  <a:pt x="6422" y="17989"/>
                </a:lnTo>
                <a:lnTo>
                  <a:pt x="6422" y="10800"/>
                </a:lnTo>
                <a:lnTo>
                  <a:pt x="4768" y="10800"/>
                </a:lnTo>
                <a:close/>
              </a:path>
              <a:path fill="darkenLess" w="23462" h="21600">
                <a:moveTo>
                  <a:pt x="14307" y="6448"/>
                </a:moveTo>
                <a:lnTo>
                  <a:pt x="14307" y="4707"/>
                </a:lnTo>
                <a:lnTo>
                  <a:pt x="16083" y="4707"/>
                </a:lnTo>
                <a:lnTo>
                  <a:pt x="16083" y="8224"/>
                </a:lnTo>
                <a:close/>
              </a:path>
              <a:path fill="darkenLess" w="23462" h="21600">
                <a:moveTo>
                  <a:pt x="10808" y="14299"/>
                </a:moveTo>
                <a:lnTo>
                  <a:pt x="12653" y="14299"/>
                </a:lnTo>
                <a:lnTo>
                  <a:pt x="12653" y="17989"/>
                </a:lnTo>
                <a:lnTo>
                  <a:pt x="17040" y="17989"/>
                </a:lnTo>
                <a:lnTo>
                  <a:pt x="17040" y="10800"/>
                </a:lnTo>
                <a:lnTo>
                  <a:pt x="6422" y="10800"/>
                </a:lnTo>
                <a:lnTo>
                  <a:pt x="6422" y="17989"/>
                </a:lnTo>
                <a:lnTo>
                  <a:pt x="10808" y="179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362320" y="541008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56386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ick here to go back to the beg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1066680" y="1676520"/>
            <a:ext cx="70866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OOD JOB!!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ood Luck on 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Your Test!!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1828800" y="990720"/>
            <a:ext cx="464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ncorre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ry Aga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>
            <a:hlinkClick r:id="" action="ppaction://hlinkshowjump?jump=previousslide"/>
          </p:cNvPr>
          <p:cNvSpPr/>
          <p:nvPr/>
        </p:nvSpPr>
        <p:spPr>
          <a:xfrm>
            <a:off x="8077320" y="5791320"/>
            <a:ext cx="738000" cy="761760"/>
          </a:xfrm>
          <a:custGeom>
            <a:avLst/>
            <a:gdLst>
              <a:gd name="textAreaLeft" fmla="*/ 47520 w 738000"/>
              <a:gd name="textAreaRight" fmla="*/ 690480 w 738000"/>
              <a:gd name="textAreaTop" fmla="*/ 47520 h 761760"/>
              <a:gd name="textAreaBottom" fmla="*/ 714240 h 761760"/>
            </a:gdLst>
            <a:ahLst/>
            <a:rect l="textAreaLeft" t="textAreaTop" r="textAreaRight" b="textAreaBottom"/>
            <a:pathLst>
              <a:path w="21600" h="22295">
                <a:moveTo>
                  <a:pt x="0" y="0"/>
                </a:moveTo>
                <a:lnTo>
                  <a:pt x="21600" y="0"/>
                </a:lnTo>
                <a:lnTo>
                  <a:pt x="21600" y="22295"/>
                </a:lnTo>
                <a:lnTo>
                  <a:pt x="0" y="22295"/>
                </a:lnTo>
                <a:close/>
              </a:path>
              <a:path fill="lightenLess" w="21600" h="2229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95">
                <a:moveTo>
                  <a:pt x="21600" y="0"/>
                </a:moveTo>
                <a:lnTo>
                  <a:pt x="21600" y="22295"/>
                </a:lnTo>
                <a:lnTo>
                  <a:pt x="20200" y="20895"/>
                </a:lnTo>
                <a:lnTo>
                  <a:pt x="20200" y="1400"/>
                </a:lnTo>
                <a:close/>
              </a:path>
              <a:path fill="darkenLess" w="21600" h="22295">
                <a:moveTo>
                  <a:pt x="21600" y="22295"/>
                </a:moveTo>
                <a:lnTo>
                  <a:pt x="0" y="22295"/>
                </a:lnTo>
                <a:lnTo>
                  <a:pt x="1400" y="20895"/>
                </a:lnTo>
                <a:lnTo>
                  <a:pt x="20200" y="20895"/>
                </a:lnTo>
                <a:close/>
              </a:path>
              <a:path fill="lighten" w="21600" h="22295">
                <a:moveTo>
                  <a:pt x="0" y="2229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95"/>
                </a:lnTo>
                <a:close/>
              </a:path>
              <a:path fill="darken" w="21600" h="22295">
                <a:moveTo>
                  <a:pt x="3794" y="11148"/>
                </a:moveTo>
                <a:lnTo>
                  <a:pt x="17806" y="4141"/>
                </a:lnTo>
                <a:lnTo>
                  <a:pt x="17806" y="18154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" descr=""/>
          <p:cNvPicPr/>
          <p:nvPr/>
        </p:nvPicPr>
        <p:blipFill>
          <a:blip r:embed="rId1"/>
          <a:stretch/>
        </p:blipFill>
        <p:spPr>
          <a:xfrm>
            <a:off x="3733920" y="3124080"/>
            <a:ext cx="281916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352680" y="2209680"/>
            <a:ext cx="3733920" cy="243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" action="ppaction://hlinkshowjump?jump=las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" action="ppaction://hlinkshowjump?jump=las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>
            <a:hlinkClick r:id="" action="ppaction://hlinkshowjump?jump=las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76520" y="4800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>
            <a:hlinkClick r:id="" action="ppaction://hlinkshowjump?jump=las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676520" y="2514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6520" y="32767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>
            <a:hlinkClick r:id="" action="ppaction://hlinkshowjump?jump=las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>
            <a:hlinkClick r:id="" action="ppaction://hlinkshowjump?jump=las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>
            <a:hlinkClick r:id="" action="ppaction://hlinkshowjump?jump=nex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" action="ppaction://hlinkshowjump?jump=nex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0384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4267080" y="914400"/>
                <a:ext cx="106704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581280" y="2057400"/>
            <a:ext cx="37339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762120" y="83808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>
            <a:hlinkClick r:id="" action="ppaction://hlinkshowjump?jump=lastslide"/>
          </p:cNvPr>
          <p:cNvSpPr/>
          <p:nvPr/>
        </p:nvSpPr>
        <p:spPr>
          <a:xfrm>
            <a:off x="990720" y="396252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" action="ppaction://hlinkshowjump?jump=lastslide"/>
          </p:cNvPr>
          <p:cNvSpPr/>
          <p:nvPr/>
        </p:nvSpPr>
        <p:spPr>
          <a:xfrm>
            <a:off x="990720" y="2438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>
            <a:hlinkClick r:id="" action="ppaction://hlinkshowjump?jump=lastslide"/>
          </p:cNvPr>
          <p:cNvSpPr/>
          <p:nvPr/>
        </p:nvSpPr>
        <p:spPr>
          <a:xfrm>
            <a:off x="990720" y="2514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76520" y="251460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>
            <a:hlinkClick r:id="" action="ppaction://hlinkshowjump?jump=lastslide"/>
          </p:cNvPr>
          <p:cNvSpPr/>
          <p:nvPr/>
        </p:nvSpPr>
        <p:spPr>
          <a:xfrm>
            <a:off x="99072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>
            <a:hlinkClick r:id="" action="ppaction://hlinkshowjump?jump=lastslide"/>
          </p:cNvPr>
          <p:cNvSpPr/>
          <p:nvPr/>
        </p:nvSpPr>
        <p:spPr>
          <a:xfrm>
            <a:off x="990720" y="32004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>
            <a:hlinkClick r:id="" action="ppaction://hlinkshowjump?jump=lastslide"/>
          </p:cNvPr>
          <p:cNvSpPr/>
          <p:nvPr/>
        </p:nvSpPr>
        <p:spPr>
          <a:xfrm>
            <a:off x="990720" y="3276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>
            <a:hlinkClick r:id="" action="ppaction://hlinkshowjump?jump=nextslide"/>
          </p:cNvPr>
          <p:cNvSpPr/>
          <p:nvPr/>
        </p:nvSpPr>
        <p:spPr>
          <a:xfrm>
            <a:off x="990720" y="4724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" action="ppaction://hlinkshowjump?jump=nextslide"/>
          </p:cNvPr>
          <p:cNvSpPr/>
          <p:nvPr/>
        </p:nvSpPr>
        <p:spPr>
          <a:xfrm>
            <a:off x="990720" y="4800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 using the laws of exponent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3809880" y="990720"/>
                <a:ext cx="18288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1981080" y="2438280"/>
                <a:ext cx="49716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"/>
              <p:cNvSpPr txBox="1"/>
              <p:nvPr/>
            </p:nvSpPr>
            <p:spPr>
              <a:xfrm>
                <a:off x="1981080" y="3276720"/>
                <a:ext cx="6210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1981080" y="4038480"/>
                <a:ext cx="6210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1981080" y="4800600"/>
                <a:ext cx="4971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6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>
            <a:hlinkClick r:id="" action="ppaction://hlinkshowjump?jump=nextslide"/>
          </p:cNvPr>
          <p:cNvSpPr/>
          <p:nvPr/>
        </p:nvSpPr>
        <p:spPr>
          <a:xfrm>
            <a:off x="7924680" y="5715000"/>
            <a:ext cx="838440" cy="838080"/>
          </a:xfrm>
          <a:custGeom>
            <a:avLst/>
            <a:gdLst>
              <a:gd name="textAreaLeft" fmla="*/ 54000 w 838440"/>
              <a:gd name="textAreaRight" fmla="*/ 784440 w 8384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9" h="21600">
                <a:moveTo>
                  <a:pt x="0" y="0"/>
                </a:moveTo>
                <a:lnTo>
                  <a:pt x="21609" y="0"/>
                </a:lnTo>
                <a:lnTo>
                  <a:pt x="21609" y="21600"/>
                </a:lnTo>
                <a:lnTo>
                  <a:pt x="0" y="21600"/>
                </a:lnTo>
                <a:close/>
              </a:path>
              <a:path fill="lightenLess" w="21609" h="21600">
                <a:moveTo>
                  <a:pt x="0" y="0"/>
                </a:moveTo>
                <a:lnTo>
                  <a:pt x="21609" y="0"/>
                </a:lnTo>
                <a:lnTo>
                  <a:pt x="20209" y="1400"/>
                </a:lnTo>
                <a:lnTo>
                  <a:pt x="1400" y="1400"/>
                </a:lnTo>
                <a:close/>
              </a:path>
              <a:path fill="darken" w="21609" h="21600">
                <a:moveTo>
                  <a:pt x="21609" y="0"/>
                </a:moveTo>
                <a:lnTo>
                  <a:pt x="21609" y="21600"/>
                </a:lnTo>
                <a:lnTo>
                  <a:pt x="20209" y="20200"/>
                </a:lnTo>
                <a:lnTo>
                  <a:pt x="20209" y="1400"/>
                </a:lnTo>
                <a:close/>
              </a:path>
              <a:path fill="darkenLess" w="21609" h="21600">
                <a:moveTo>
                  <a:pt x="216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9" y="20200"/>
                </a:lnTo>
                <a:close/>
              </a:path>
              <a:path fill="lighten" w="216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9" h="21600">
                <a:moveTo>
                  <a:pt x="3798" y="3794"/>
                </a:moveTo>
                <a:lnTo>
                  <a:pt x="17811" y="10800"/>
                </a:lnTo>
                <a:lnTo>
                  <a:pt x="3798" y="17806"/>
                </a:lnTo>
                <a:close/>
              </a:path>
            </a:pathLst>
          </a:custGeom>
          <a:solidFill>
            <a:srgbClr val="a434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505320" y="2286000"/>
            <a:ext cx="37335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Chalkboard"/>
              </a:rPr>
              <a:t>Correc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Chalkboard"/>
              <a:ea typeface="Chalk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16:50:13Z</dcterms:created>
  <dc:creator>Lynda Dye</dc:creator>
  <dc:description/>
  <dc:language>en-US</dc:language>
  <cp:lastModifiedBy>Greta Wildasin</cp:lastModifiedBy>
  <dcterms:modified xsi:type="dcterms:W3CDTF">2009-01-09T04:22:19Z</dcterms:modified>
  <cp:revision>24</cp:revision>
  <dc:subject/>
  <dc:title>PowerPoint Presentation</dc:title>
</cp:coreProperties>
</file>